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37A-75FA-417D-92D7-4B18E4D4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7CD-551C-4440-B6D1-1E1AF1DE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AF0-4277-4484-A14E-40EEFB90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6E4-F4DF-433E-AA50-54E90063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2FF6-46D5-4443-8DD8-3F7DF5E8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DC73-C9D8-4C6F-B6F7-9125E522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84B5-7777-450D-A28F-7F293B06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2BAF-B786-4CE5-B7F8-E7B882A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1FE4-7BE5-41AB-9539-6249A6E3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5243-920E-493C-B278-32571A69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697-C339-4280-9DA0-420BF4A8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655-3B22-4ED1-871D-331E245D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AD40-EE99-4175-9DB2-C55C09A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AEA3-B9E7-4378-842C-5C49242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2F0D-0AF6-43CB-9C5B-ACB3FD27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78D8-ADA9-49A1-A968-D0FE8644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ADC7-49F2-4B4D-8B86-138E3CEB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B19-D0D8-4D59-B1C8-A13FF447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87B-0468-45CB-886E-65A697CE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791-6C71-4C8E-A62C-BD216DE0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83E-CC02-44A6-B566-9503FEF8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2AB-1571-402B-A8B1-26A3813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DE9-6EA8-4505-9CEF-F01423D3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E89-2F2B-4477-9C46-802CA791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8DE7-92C3-41C4-8B3C-DA066E2511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D09F-4D0B-4E00-A8C2-86337DB33C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n time is Englis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t.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sister wants to become and industrial engineer, shes gonna write to the institute of industrial engineers in norcross georgia for more inform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dent:Mammal::human: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athetic:Emotion::________:b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 Ke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ister wants to become and industrial engineer.  She’s going to write to the Institute of Industrial Engineers in Norcross, Georgia, for more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ine you were shipwrecked on an island. What do you think you would need to survi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ost Dangerous Ga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. 2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09:01Z</dcterms:created>
  <dc:creator>student</dc:creator>
  <dc:description/>
  <dc:language>en-US</dc:language>
  <cp:lastModifiedBy>student</cp:lastModifiedBy>
  <dcterms:modified xsi:type="dcterms:W3CDTF">2010-09-03T15:27:05Z</dcterms:modified>
  <cp:revision>2</cp:revision>
  <dc:subject/>
  <dc:title>Fun time is English</dc:title>
</cp:coreProperties>
</file>